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870BD-524A-46EB-B485-AA2364396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2D3DB-DA5A-4D3A-8BC0-F0888D47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A58890-20D3-4CA0-B9BE-3A44D00DE4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FBCC27-F5D3-4494-8A61-53560C5581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A6F0A4-B0F2-44DB-B4C2-F8C323619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209689-2684-4C27-986B-C5DE125CA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6E6D73-5FC2-4304-A66F-557A5CA9A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20316-8A9A-4D7D-A381-283821F85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482D5B-A057-4537-A580-F8C02B273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792D42-B0DB-4CBD-91A7-0D549DE906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B16E0E-E528-4BDD-9A59-D5486BAEC0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A46A8F-3C4D-441C-9D77-FA8D092A3A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69CA-3A78-47C0-8B29-F0D5C353E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3BA0EB-E4B4-4253-8709-2434613860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33155A-353A-46EF-844B-69E0600AD1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3BBAF4-7CD3-4BFD-AB97-D3A0004A27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303F91-E5F1-4147-9B71-A0C625CC6A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7A7534-B1F2-4D65-979D-CE59C9F9D1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216442-1F12-469A-A16A-32B1C8C9A0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C7EA60-385D-4F73-B433-4FAFAB0994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3ACAA0-E9A8-4980-98DF-876EAB1169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0D994A-04CD-43AB-B339-08DCFA6767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F95428-60C7-4763-BA4A-B41E345B094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27D6E-D5F3-4A37-9152-E630F655C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DCC599-6984-4766-BBC2-BB41CE0E09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1A7389-914A-47FF-AEE3-0528226C3D4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7CD7D6-FB4B-4A5A-9D3A-3C1FC1CA65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A66280-7450-4D8C-A543-293004CD48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EC367A-E15B-4739-ADCA-8D4E3A1DF3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B0C086-2DE2-4D9F-A16B-D39E23F5AA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656B4C-129B-402A-A6FB-60CB0C0AEA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C0075D-CC7E-4369-AAE2-0533178815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00F400-62EC-4897-B0D5-32DD727AA5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C7E307-2066-44AF-94A1-3FE1AF5607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23624-3279-4D63-A8BE-DF4BD0B36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903314-C02A-402F-B9FA-8A2CF920F6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9E5FF1-4ADD-4DDA-812C-98A528A513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94DF93F-48CE-4E0A-AC1F-F5279934EF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78AA7F-4338-4CE5-A526-F7CDE0CA6E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A370B6-862A-4CE5-8DA9-1FE265255F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BED317-2DB1-422A-AF0C-199FB332EE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17DE8B-4CE0-4E72-953B-1267A37481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C6B6A5-AE3B-4D26-936B-8F224AAC8B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CAC6AA-97D2-4FC8-85D9-2B81E3A2B6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061FE2-94ED-4D01-9A83-A59C61B2BB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C6105-D7B6-4C66-8222-3882E52A1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E50C6-DA59-477D-B0B1-826E5FC6A6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CFFD7F-C3D4-432F-A4E1-3452AE62FE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78E42F-87FB-4E6F-9309-B704CA74BF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0D6FBD-9536-4029-9B9A-4AF91D6C48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11D965-3EBB-4D25-9529-72FCD443AE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04F05F-E30F-4716-871E-CE8013A007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FECE38-9461-41BA-BD02-87902058CE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DD3CF4-3217-49A9-ADB4-0BBED2F817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D0DE01-ACC2-4D9B-BFD5-F6386CCCC5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C9EEE1-624A-4495-92D0-767EE42D72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EB6EC-327A-4244-8388-BFEE7C1DE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8A3734-13B7-4298-814C-98375F0560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A6FFAA-B5C1-423E-BE94-CA3A18F4FA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9E3597-B7EB-45E7-B56D-F91A13B920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FD47A1-5E49-4A41-893C-0FA3E15D39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25D3FA-F3CE-4F48-A277-D635A2999B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CD49BFF-AF00-48AD-ABFE-4AA50C74E6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A7C61BE-0D5C-4598-A16E-B49AE5B8EF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4A2525-60E2-4EB1-9FF9-0B02227950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93852F-E0B1-4685-A17B-7C4A35BCDD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FEEE48-4901-4466-A42B-FF4C1A0034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FCE3D-D289-4C40-BBAB-609904DEC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094CE5-AEB2-4B01-886C-EE95AD982D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2440A2-FF21-4529-A15C-2B7BABF15A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A14FB8-D6FC-4543-989B-79AF7779E8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F2298A-B142-4ECA-A1DE-5AD756E32D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A1824FC-CE69-4D1E-B21D-4B92FFABCE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06A9AB-5140-4407-8D9E-8876BF0445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8D1E0A-483C-4ED4-9778-1A9153CBB8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5C5329-1394-4DF3-B2AC-D06FCD42B1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66A5B0-78E2-4972-B80A-B68BF10E0CA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95B7B045-4798-460B-9240-8107AB50C8B2}"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AD166-8A6F-4BDC-997F-E192E2830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1D8D4A3E-F982-46A4-B548-102A5F56CAF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F7D90145-2C4C-495D-B291-AD66D9868091}"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65C419B-96C5-46DE-B0BD-A5088F0D29A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729A0388-BAB1-465A-9CB5-21335AAB3B53}"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B63B9DE-7812-4FA2-974E-1CF61856B2C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841F589-7B59-425C-9B8B-EF1A2C22644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E9AA6EC-919F-423A-B9CB-DF5CB5ECBB5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7B3E696-21DC-46D2-8995-1102C03EE73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F415945-D8BB-4D11-9A88-B7E765EB789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4F04820-77FD-46C0-837E-387649D49BE2}"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EADE2-11DF-47DA-8DF4-2E8DE945A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D082309B-C89C-47AB-B035-921DF6122E58}"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84F59F5-A82E-4AEB-AC49-31F786EDC2D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1DE1C6-4F25-41B5-B81E-AFC99AA9A8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EB5E1E-8C5E-468E-8E54-1F22017859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FFB699D-BDB4-4C44-927C-9841653288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569AB0-55ED-4E19-A127-C93BC447BB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BA2932-44F5-4EC9-965B-C978FC1CD4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017A5C-B9BF-4C66-A18C-47BE0E469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397B74-8357-4DBA-B86E-0E5D566D8D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1EA1E5-97E6-4814-BAB3-53DDF3CC48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4F56E-BE3C-4904-B1E2-95E4B0CA3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AE9F1F-E4E9-4CB3-921C-94FB9AF038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8A9775D-9352-4ADF-9D8A-3EB4A616CCB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1DB02EE-7FE3-4CFE-81F0-BA87518FA08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0F67-072E-4866-B374-62A2318F0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6F8C1-11BD-41F0-8564-4175DD136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80506-C4F9-4CF3-8068-B7D177515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076CF-D483-438E-8962-398056107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6877E-013C-4A88-97D0-15B94C345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74DBB-C49E-4685-88A5-7449CF53E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BA1F58-EE6B-4FBC-B7CF-6C43BD5BD0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8326D-D32F-4310-B7B5-9BE357CA1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13DE52-4B71-41C4-8B89-AE8A6854D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E9DA9-48F9-4887-A193-00F45A49E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A12836-FA6C-4117-A358-D22B360CF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64410-BBD7-4CF5-B96A-FE8AF6F4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72882-E4E9-452E-B4CE-4BB1DEB4A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E14F4-E33E-4E04-A5F4-66C374ADF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DEC30-F29D-4119-BA0A-4C9A52374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7703E-F411-4A6E-818D-95E42C5CC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D25E7-29F1-421C-B8BC-C3F3D0CAB0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DBA54-809C-454D-82B7-B59A481E9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BDC4C-119F-41E3-83F2-32BB16E745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FB0A19-3173-42FD-BBD1-46666B3FA1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86D6E6-1908-4261-BF76-F1452B81E9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3AE290-219D-44A4-AD4C-DA58CDF050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CDCB5-D3D8-4208-B58B-6E6F27FBA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879B2C-5B60-4F42-84D1-913E9E8FBB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C00440-F45F-4295-885F-F14FE86925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7E8745-2832-45D4-B2CC-0E6CC3FBE6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EC95C3-6C6F-4E5D-BAE2-25C2FAA3A8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F605BC-EB87-40AD-8FA9-A590D7FFE2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06779A-F721-42A3-BEEB-62F3785B02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61E320-74BB-4560-8517-C910BE1416D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9E9195-42E6-4AC6-8877-322B3FE30EA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7E0488-8DF7-449D-A030-D11EB70110A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D03C71B-06B9-449F-9941-C44E302441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C155-8A67-4C85-8F84-46AC53394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B05A82-BE5C-4952-9689-5DE974DCA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B65C1A-1505-40F3-A21C-CCCD15F26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44F60CC-30E6-4D0F-B9F3-96B53ED4D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6809F4-2737-4CFB-8D9F-AE519B505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C421CF-1CFA-4D1B-AA85-BBC58B26AD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E0C97B-008D-4199-A284-F9E4B4025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243970-B72C-45EB-820C-9C3D89B09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250A5B-E08F-4556-BC11-1FA9AC7A6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8D758A-A201-47CD-B472-4691FD9E55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72BD40-DE41-42FF-95A7-266914813D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9529-1AE8-40C9-B0F7-25071E73E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C45227E-28E3-4C54-8033-3B38E9164E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A13F9E-827A-41B8-A2D0-555ABE098E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9523F-B20A-4539-8352-F5AA19C5C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24DC1-8A46-49EA-BCF5-C5C689D77B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C1C06-4B3A-4AA5-83B2-BFC5CBC7DA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A5618-FDFD-4528-BD12-AA4979269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D610C-3C0A-4B65-96F8-885BB93B6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7A559E-BF4D-4D47-963E-788F398578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71461-812A-4C2A-A2AC-8163561B3C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F2DF3-7C97-4BD9-85BA-C2D5E925F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A5E20-B2F8-4BF6-AFC5-5B5769DE3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94250-62BD-4ED8-B712-675CD6F17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14A95C-46F6-40CC-BBE4-2DC07C0E14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6F6165-FDCE-4E6F-8EA4-A3530B89D2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48CA5-FF01-4AAE-9768-4F9D447AE3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EBA67-3078-4F41-9FB4-8BCDA70715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8B56E-94FA-4C30-AB0A-FEC87155D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ACFB38-C612-4E69-94F5-1FEF52BA0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ED96ED-25CD-4A00-B59D-D6C80596A3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2937DC-09F5-476C-8B85-07C8244F8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536DE4-7D3C-4E54-95FB-9B2BEF510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C467-0E57-41EB-94BB-12C13195D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15C7FF-4ABF-44E7-910C-E2F6FD50A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CE69B-3F86-4BD2-8C81-8B6EF0C7E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530C8-FACC-4195-A3FC-2D48D7A1CB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A5C4B4-2992-4F5C-A4EF-EE033175A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4A9B3-B880-49B0-AA1B-FAED4A32A7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5C222C-6573-4C88-8704-7933BAE557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AB1A8A-854D-471B-AD00-9C927DCBD5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4EE5F7-1FA1-488B-8EF2-45470CACC0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D0D3A-DCB3-465B-AE32-ADA6588E7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23372-4B25-4B4B-BEFC-A230EDB38F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B2A5-8B2A-4CA1-9250-B712A733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364B7-FF35-427C-B5B1-2B146B74CE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07E5A-2FE9-432A-A29C-706B84983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3B90F-232E-49BD-BDAB-15ADC6268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DF2A1F-044C-47C8-98EF-981835A652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14621-B32C-418A-A87E-243858511E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8B94E3-C167-4D81-9934-24E8F70CF5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B42773-E418-4451-B30D-9860E96626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4CE107-F174-486E-A780-26CC8111D9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4B13F7-076C-458E-A4ED-8273AE759E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DF116-6A97-48A7-82AC-28EF5B6328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F000-991A-4F13-AA8E-838E9DFA7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2" name=""/>
          <p:cNvGrpSpPr/>
          <p:nvPr/>
        </p:nvGrpSpPr>
        <p:grpSpPr>
          <a:xfrm>
            <a:off x="0" y="0"/>
            <a:ext cx="9144000" cy="6856560"/>
            <a:chOff x="0" y="0"/>
            <a:chExt cx="9144000" cy="6856560"/>
          </a:xfrm>
        </p:grpSpPr>
        <p:sp>
          <p:nvSpPr>
            <p:cNvPr id="45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0" y="2590920"/>
              <a:ext cx="9140760" cy="2949480"/>
              <a:chOff x="0" y="2590920"/>
              <a:chExt cx="9140760" cy="2949480"/>
            </a:xfrm>
          </p:grpSpPr>
          <p:sp>
            <p:nvSpPr>
              <p:cNvPr id="49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9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152D-8B59-4916-9EAD-DD5AF07D62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3240" y="4267080"/>
            <a:ext cx="9140760" cy="2590920"/>
            <a:chOff x="3240" y="4267080"/>
            <a:chExt cx="9140760" cy="2590920"/>
          </a:xfrm>
        </p:grpSpPr>
        <p:sp>
          <p:nvSpPr>
            <p:cNvPr id="5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5" name=""/>
            <p:cNvGrpSpPr/>
            <p:nvPr/>
          </p:nvGrpSpPr>
          <p:grpSpPr>
            <a:xfrm>
              <a:off x="5600880" y="5897520"/>
              <a:ext cx="1256760" cy="827280"/>
              <a:chOff x="5600880" y="5897520"/>
              <a:chExt cx="1256760" cy="827280"/>
            </a:xfrm>
          </p:grpSpPr>
          <p:sp>
            <p:nvSpPr>
              <p:cNvPr id="5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47" name=""/>
            <p:cNvGrpSpPr/>
            <p:nvPr/>
          </p:nvGrpSpPr>
          <p:grpSpPr>
            <a:xfrm>
              <a:off x="2819520" y="5764320"/>
              <a:ext cx="2581200" cy="1084320"/>
              <a:chOff x="2819520" y="5764320"/>
              <a:chExt cx="2581200" cy="1084320"/>
            </a:xfrm>
          </p:grpSpPr>
          <p:sp>
            <p:nvSpPr>
              <p:cNvPr id="5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6" name=""/>
            <p:cNvGrpSpPr/>
            <p:nvPr/>
          </p:nvGrpSpPr>
          <p:grpSpPr>
            <a:xfrm>
              <a:off x="6553080" y="5334120"/>
              <a:ext cx="2144880" cy="1303200"/>
              <a:chOff x="6553080" y="5334120"/>
              <a:chExt cx="2144880" cy="1303200"/>
            </a:xfrm>
          </p:grpSpPr>
          <p:sp>
            <p:nvSpPr>
              <p:cNvPr id="5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84" name=""/>
            <p:cNvGrpSpPr/>
            <p:nvPr/>
          </p:nvGrpSpPr>
          <p:grpSpPr>
            <a:xfrm>
              <a:off x="8381880" y="4800600"/>
              <a:ext cx="674640" cy="409680"/>
              <a:chOff x="8381880" y="4800600"/>
              <a:chExt cx="674640" cy="409680"/>
            </a:xfrm>
          </p:grpSpPr>
          <p:sp>
            <p:nvSpPr>
              <p:cNvPr id="5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 name=""/>
              <p:cNvGrpSpPr/>
              <p:nvPr/>
            </p:nvGrpSpPr>
            <p:grpSpPr>
              <a:xfrm>
                <a:off x="8542440" y="4897440"/>
                <a:ext cx="360360" cy="209520"/>
                <a:chOff x="8542440" y="4897440"/>
                <a:chExt cx="360360" cy="209520"/>
              </a:xfrm>
            </p:grpSpPr>
            <p:sp>
              <p:nvSpPr>
                <p:cNvPr id="5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1EA3-AECE-4CAE-8E7D-D27E01B7B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38" name=""/>
          <p:cNvGrpSpPr/>
          <p:nvPr/>
        </p:nvGrpSpPr>
        <p:grpSpPr>
          <a:xfrm>
            <a:off x="3240" y="4267080"/>
            <a:ext cx="9140760" cy="2590920"/>
            <a:chOff x="3240" y="4267080"/>
            <a:chExt cx="9140760" cy="2590920"/>
          </a:xfrm>
        </p:grpSpPr>
        <p:sp>
          <p:nvSpPr>
            <p:cNvPr id="63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0" name=""/>
            <p:cNvGrpSpPr/>
            <p:nvPr/>
          </p:nvGrpSpPr>
          <p:grpSpPr>
            <a:xfrm>
              <a:off x="5600880" y="5897520"/>
              <a:ext cx="1256760" cy="827280"/>
              <a:chOff x="5600880" y="5897520"/>
              <a:chExt cx="1256760" cy="827280"/>
            </a:xfrm>
          </p:grpSpPr>
          <p:sp>
            <p:nvSpPr>
              <p:cNvPr id="64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52" name=""/>
            <p:cNvGrpSpPr/>
            <p:nvPr/>
          </p:nvGrpSpPr>
          <p:grpSpPr>
            <a:xfrm>
              <a:off x="2819520" y="5764320"/>
              <a:ext cx="2581200" cy="1084320"/>
              <a:chOff x="2819520" y="5764320"/>
              <a:chExt cx="2581200" cy="1084320"/>
            </a:xfrm>
          </p:grpSpPr>
          <p:sp>
            <p:nvSpPr>
              <p:cNvPr id="65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
            <p:cNvGrpSpPr/>
            <p:nvPr/>
          </p:nvGrpSpPr>
          <p:grpSpPr>
            <a:xfrm>
              <a:off x="6553080" y="5334120"/>
              <a:ext cx="2144880" cy="1303200"/>
              <a:chOff x="6553080" y="5334120"/>
              <a:chExt cx="2144880" cy="1303200"/>
            </a:xfrm>
          </p:grpSpPr>
          <p:sp>
            <p:nvSpPr>
              <p:cNvPr id="67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8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89" name=""/>
            <p:cNvGrpSpPr/>
            <p:nvPr/>
          </p:nvGrpSpPr>
          <p:grpSpPr>
            <a:xfrm>
              <a:off x="8381880" y="4800600"/>
              <a:ext cx="674640" cy="409680"/>
              <a:chOff x="8381880" y="4800600"/>
              <a:chExt cx="674640" cy="409680"/>
            </a:xfrm>
          </p:grpSpPr>
          <p:sp>
            <p:nvSpPr>
              <p:cNvPr id="69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7" name=""/>
              <p:cNvGrpSpPr/>
              <p:nvPr/>
            </p:nvGrpSpPr>
            <p:grpSpPr>
              <a:xfrm>
                <a:off x="8542440" y="4897440"/>
                <a:ext cx="360360" cy="209520"/>
                <a:chOff x="8542440" y="4897440"/>
                <a:chExt cx="360360" cy="209520"/>
              </a:xfrm>
            </p:grpSpPr>
            <p:sp>
              <p:nvSpPr>
                <p:cNvPr id="69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03"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5"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778F-577B-4AB3-9FCD-78506F600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42" name=""/>
          <p:cNvGrpSpPr/>
          <p:nvPr/>
        </p:nvGrpSpPr>
        <p:grpSpPr>
          <a:xfrm>
            <a:off x="1440" y="0"/>
            <a:ext cx="9149040" cy="6851520"/>
            <a:chOff x="1440" y="0"/>
            <a:chExt cx="9149040" cy="6851520"/>
          </a:xfrm>
        </p:grpSpPr>
        <p:sp>
          <p:nvSpPr>
            <p:cNvPr id="74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6" name=""/>
            <p:cNvGrpSpPr/>
            <p:nvPr/>
          </p:nvGrpSpPr>
          <p:grpSpPr>
            <a:xfrm>
              <a:off x="457200" y="0"/>
              <a:ext cx="8093160" cy="6851520"/>
              <a:chOff x="457200" y="0"/>
              <a:chExt cx="8093160" cy="6851520"/>
            </a:xfrm>
          </p:grpSpPr>
          <p:sp>
            <p:nvSpPr>
              <p:cNvPr id="74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1" name=""/>
            <p:cNvGrpSpPr/>
            <p:nvPr/>
          </p:nvGrpSpPr>
          <p:grpSpPr>
            <a:xfrm>
              <a:off x="1440" y="622440"/>
              <a:ext cx="9141120" cy="2493720"/>
              <a:chOff x="1440" y="622440"/>
              <a:chExt cx="9141120" cy="2493720"/>
            </a:xfrm>
          </p:grpSpPr>
          <p:sp>
            <p:nvSpPr>
              <p:cNvPr id="77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0"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8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82"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975B-7933-4864-A743-CB9AF91C58D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20" name=""/>
          <p:cNvGrpSpPr/>
          <p:nvPr/>
        </p:nvGrpSpPr>
        <p:grpSpPr>
          <a:xfrm>
            <a:off x="0" y="0"/>
            <a:ext cx="9148320" cy="6851520"/>
            <a:chOff x="0" y="0"/>
            <a:chExt cx="9148320" cy="6851520"/>
          </a:xfrm>
        </p:grpSpPr>
        <p:sp>
          <p:nvSpPr>
            <p:cNvPr id="821"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4" name=""/>
            <p:cNvGrpSpPr/>
            <p:nvPr/>
          </p:nvGrpSpPr>
          <p:grpSpPr>
            <a:xfrm>
              <a:off x="455400" y="0"/>
              <a:ext cx="8092440" cy="6851520"/>
              <a:chOff x="455400" y="0"/>
              <a:chExt cx="8092440" cy="6851520"/>
            </a:xfrm>
          </p:grpSpPr>
          <p:sp>
            <p:nvSpPr>
              <p:cNvPr id="825"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8"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9" name=""/>
            <p:cNvGrpSpPr/>
            <p:nvPr/>
          </p:nvGrpSpPr>
          <p:grpSpPr>
            <a:xfrm>
              <a:off x="0" y="622440"/>
              <a:ext cx="9140760" cy="2493720"/>
              <a:chOff x="0" y="622440"/>
              <a:chExt cx="9140760" cy="2493720"/>
            </a:xfrm>
          </p:grpSpPr>
          <p:sp>
            <p:nvSpPr>
              <p:cNvPr id="850"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5"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58"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5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60"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C198-2B0C-477D-AF4F-135626DF9C7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9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9"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0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2A52-A988-45DE-88DD-A93E45684A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0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03" name=""/>
          <p:cNvGrpSpPr/>
          <p:nvPr/>
        </p:nvGrpSpPr>
        <p:grpSpPr>
          <a:xfrm>
            <a:off x="228600" y="457200"/>
            <a:ext cx="1246320" cy="1371600"/>
            <a:chOff x="228600" y="457200"/>
            <a:chExt cx="1246320" cy="1371600"/>
          </a:xfrm>
        </p:grpSpPr>
        <p:sp>
          <p:nvSpPr>
            <p:cNvPr id="90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17"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95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5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5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B77E-C17B-4121-A32D-2AFEB9B31A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9" name=""/>
          <p:cNvGrpSpPr/>
          <p:nvPr/>
        </p:nvGrpSpPr>
        <p:grpSpPr>
          <a:xfrm>
            <a:off x="228600" y="1447920"/>
            <a:ext cx="2286000" cy="2514600"/>
            <a:chOff x="228600" y="1447920"/>
            <a:chExt cx="2286000" cy="2514600"/>
          </a:xfrm>
        </p:grpSpPr>
        <p:sp>
          <p:nvSpPr>
            <p:cNvPr id="96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662B-17DB-492B-AFFA-01D4E6DB3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045E-8D51-4E06-B846-756FBBD546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85F1-0A45-4063-858B-EF504A681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FF36-B387-4930-A645-2A369E6DA8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6" name=""/>
          <p:cNvGrpSpPr/>
          <p:nvPr/>
        </p:nvGrpSpPr>
        <p:grpSpPr>
          <a:xfrm>
            <a:off x="0" y="0"/>
            <a:ext cx="9140760" cy="6850080"/>
            <a:chOff x="0" y="0"/>
            <a:chExt cx="9140760" cy="6850080"/>
          </a:xfrm>
        </p:grpSpPr>
        <p:grpSp>
          <p:nvGrpSpPr>
            <p:cNvPr id="167" name=""/>
            <p:cNvGrpSpPr/>
            <p:nvPr/>
          </p:nvGrpSpPr>
          <p:grpSpPr>
            <a:xfrm>
              <a:off x="2743200" y="3540240"/>
              <a:ext cx="6392880" cy="3309840"/>
              <a:chOff x="2743200" y="3540240"/>
              <a:chExt cx="6392880" cy="3309840"/>
            </a:xfrm>
          </p:grpSpPr>
          <p:sp>
            <p:nvSpPr>
              <p:cNvPr id="16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6"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4" name=""/>
          <p:cNvGrpSpPr/>
          <p:nvPr/>
        </p:nvGrpSpPr>
        <p:grpSpPr>
          <a:xfrm>
            <a:off x="0" y="0"/>
            <a:ext cx="9140760" cy="6850080"/>
            <a:chOff x="0" y="0"/>
            <a:chExt cx="9140760" cy="6850080"/>
          </a:xfrm>
        </p:grpSpPr>
        <p:grpSp>
          <p:nvGrpSpPr>
            <p:cNvPr id="215" name=""/>
            <p:cNvGrpSpPr/>
            <p:nvPr/>
          </p:nvGrpSpPr>
          <p:grpSpPr>
            <a:xfrm>
              <a:off x="2743200" y="3540240"/>
              <a:ext cx="6392880" cy="3309840"/>
              <a:chOff x="2743200" y="3540240"/>
              <a:chExt cx="6392880" cy="3309840"/>
            </a:xfrm>
          </p:grpSpPr>
          <p:sp>
            <p:nvSpPr>
              <p:cNvPr id="21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4"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6"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8D9E-0F54-46D3-AC09-247CA60A17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63" name=""/>
          <p:cNvGrpSpPr/>
          <p:nvPr/>
        </p:nvGrpSpPr>
        <p:grpSpPr>
          <a:xfrm>
            <a:off x="0" y="6480"/>
            <a:ext cx="9140760" cy="6851520"/>
            <a:chOff x="0" y="6480"/>
            <a:chExt cx="9140760" cy="6851520"/>
          </a:xfrm>
        </p:grpSpPr>
        <p:sp>
          <p:nvSpPr>
            <p:cNvPr id="26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0" y="6480"/>
              <a:ext cx="9140760" cy="6851520"/>
              <a:chOff x="0" y="6480"/>
              <a:chExt cx="9140760" cy="6851520"/>
            </a:xfrm>
          </p:grpSpPr>
          <p:sp>
            <p:nvSpPr>
              <p:cNvPr id="26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8"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9"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0"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1222-CE7D-4E8D-8D29-BDA079B284B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7" name=""/>
          <p:cNvGrpSpPr/>
          <p:nvPr/>
        </p:nvGrpSpPr>
        <p:grpSpPr>
          <a:xfrm>
            <a:off x="0" y="6480"/>
            <a:ext cx="9140760" cy="6851520"/>
            <a:chOff x="0" y="6480"/>
            <a:chExt cx="9140760" cy="6851520"/>
          </a:xfrm>
        </p:grpSpPr>
        <p:grpSp>
          <p:nvGrpSpPr>
            <p:cNvPr id="318" name=""/>
            <p:cNvGrpSpPr/>
            <p:nvPr/>
          </p:nvGrpSpPr>
          <p:grpSpPr>
            <a:xfrm>
              <a:off x="0" y="1843200"/>
              <a:ext cx="9140760" cy="5014800"/>
              <a:chOff x="0" y="1843200"/>
              <a:chExt cx="9140760" cy="5014800"/>
            </a:xfrm>
          </p:grpSpPr>
          <p:sp>
            <p:nvSpPr>
              <p:cNvPr id="31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324" name=""/>
            <p:cNvGrpSpPr/>
            <p:nvPr/>
          </p:nvGrpSpPr>
          <p:grpSpPr>
            <a:xfrm>
              <a:off x="552600" y="6480"/>
              <a:ext cx="8588160" cy="6851520"/>
              <a:chOff x="552600" y="6480"/>
              <a:chExt cx="8588160" cy="6851520"/>
            </a:xfrm>
          </p:grpSpPr>
          <p:sp>
            <p:nvSpPr>
              <p:cNvPr id="3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3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32" name="PlaceHolder 2"/>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33" name="PlaceHolder 3"/>
          <p:cNvSpPr>
            <a:spLocks noGrp="1"/>
          </p:cNvSpPr>
          <p:nvPr>
            <p:ph type="ftr" idx="23"/>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34" name="PlaceHolder 4"/>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E0A6-1E80-4F75-AC8B-F9989B09742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71" name=""/>
          <p:cNvGrpSpPr/>
          <p:nvPr/>
        </p:nvGrpSpPr>
        <p:grpSpPr>
          <a:xfrm>
            <a:off x="0" y="0"/>
            <a:ext cx="9144000" cy="6856560"/>
            <a:chOff x="0" y="0"/>
            <a:chExt cx="9144000" cy="6856560"/>
          </a:xfrm>
        </p:grpSpPr>
        <p:sp>
          <p:nvSpPr>
            <p:cNvPr id="37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8" name=""/>
            <p:cNvGrpSpPr/>
            <p:nvPr/>
          </p:nvGrpSpPr>
          <p:grpSpPr>
            <a:xfrm>
              <a:off x="0" y="2590920"/>
              <a:ext cx="9140760" cy="2949480"/>
              <a:chOff x="0" y="2590920"/>
              <a:chExt cx="9140760" cy="2949480"/>
            </a:xfrm>
          </p:grpSpPr>
          <p:sp>
            <p:nvSpPr>
              <p:cNvPr id="40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3"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5"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E5D5-D8C9-4421-8A6B-06273EA05B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hyperlink" Target="http://www.pandia.com/goalgetter/" TargetMode="External"/><Relationship Id="rId2" Type="http://schemas.openxmlformats.org/officeDocument/2006/relationships/hyperlink" Target="http://www.lib.berkeley.edu/TeachingLib/Guides/Internet/FindInfo.html" TargetMode="External"/><Relationship Id="rId3" Type="http://schemas.openxmlformats.org/officeDocument/2006/relationships/hyperlink" Target="http://www.sc.edu/beaufort/library/pages/bones/bones.shtml" TargetMode="External"/><Relationship Id="rId4"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net Tutorial </a:t>
            </a:r>
            <a:endParaRPr b="0" lang="en-US" sz="4400" spc="-1" strike="noStrike">
              <a:solidFill>
                <a:srgbClr val="b7e7ff"/>
              </a:solidFill>
              <a:latin typeface="Arial"/>
            </a:endParaRPr>
          </a:p>
        </p:txBody>
      </p:sp>
      <p:sp>
        <p:nvSpPr>
          <p:cNvPr id="10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Kansas_De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tions</a:t>
            </a:r>
            <a:endParaRPr b="0" lang="en-US" sz="4400" spc="-1" strike="noStrike">
              <a:solidFill>
                <a:srgbClr val="ffffff"/>
              </a:solidFill>
              <a:latin typeface="Tahoma"/>
            </a:endParaRPr>
          </a:p>
        </p:txBody>
      </p:sp>
      <p:sp>
        <p:nvSpPr>
          <p:cNvPr id="10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WORDS--</a:t>
            </a:r>
            <a:r>
              <a:rPr b="0" lang="en-US" sz="2800" spc="-1" strike="noStrike">
                <a:solidFill>
                  <a:srgbClr val="ffffff"/>
                </a:solidFill>
                <a:latin typeface="Tahoma"/>
              </a:rPr>
              <a:t> A word searched for in a search comman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a search--</a:t>
            </a:r>
            <a:r>
              <a:rPr b="0" lang="en-US" sz="2800" spc="-1" strike="noStrike">
                <a:solidFill>
                  <a:srgbClr val="ffffff"/>
                </a:solidFill>
                <a:latin typeface="Tahoma"/>
              </a:rPr>
              <a:t>a search engine that sends user requests to several other search engines and/or databases and returns the results from each one. Meta search enables users to enter search criteria once and access several search engines simultaneous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arch Engines</a:t>
            </a: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use search engines that you know how to us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xamples of easy to use search engin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oogle, Yahoo! Search, Msn Search, and As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 Careful </a:t>
            </a:r>
            <a:endParaRPr b="1" lang="en-US" sz="4400" spc="-1" strike="noStrike">
              <a:solidFill>
                <a:srgbClr val="eaeaea"/>
              </a:solidFill>
              <a:latin typeface="Tahoma"/>
            </a:endParaRPr>
          </a:p>
        </p:txBody>
      </p:sp>
      <p:sp>
        <p:nvSpPr>
          <p:cNvPr id="10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very careful on how you search for things because search engines although very helpful can be very stupid at tim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xample of this--If you ask them for a pan pizza they may not only give you pages on pizza and pan pizza, but also information about the god Pan, Pan flutes, frying pans, Peter Pan, Pan Arabian co-operation and mo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stead put what you are looking for in quotation mark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an Piz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e Careful </a:t>
            </a:r>
            <a:endParaRPr b="0" lang="en-US" sz="3900" spc="-1" strike="noStrike">
              <a:solidFill>
                <a:srgbClr val="ffffff"/>
              </a:solidFill>
              <a:latin typeface="Arial"/>
            </a:endParaRPr>
          </a:p>
        </p:txBody>
      </p:sp>
      <p:sp>
        <p:nvSpPr>
          <p:cNvPr id="10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earching for both a cat and a dog don’t just type cat and dog. Type Cat+Dog. Use as least words as you can when searching for things. This cuts down all the extra unneeded popup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arching a Famous Person</a:t>
            </a:r>
            <a:endParaRPr b="0" lang="en-US" sz="4400" spc="-1" strike="noStrike">
              <a:solidFill>
                <a:srgbClr val="ffffff"/>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you were looking for information on some one famous you could be down "Thomas Alva Edison" but that would not give you pages with names like Thomas A. Edison or Thomas Edison. Instead put in this “Thomas Alva Edison" OR "Thomas A. Edison" OR "Thomas Edison". This will help you take care of this problem.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elling</a:t>
            </a:r>
            <a:endParaRPr b="0" lang="en-US" sz="4400" spc="-1" strike="noStrike">
              <a:solidFill>
                <a:srgbClr val="ccecff"/>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earch engines are very sensitive so make sure you always spell things right. And if something is supposed to be lower case make sure it is. And the same goes with it if it’s suppose to be upper c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a:t>
            </a:r>
            <a:endParaRPr b="0" lang="en-US" sz="4400" spc="-1" strike="noStrike">
              <a:solidFill>
                <a:srgbClr val="ccecff"/>
              </a:solidFill>
              <a:latin typeface="Arial"/>
            </a:endParaRPr>
          </a:p>
        </p:txBody>
      </p:sp>
      <p:sp>
        <p:nvSpPr>
          <p:cNvPr id="10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pandia.com/goalgetter/</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rPr>
              <a:t>http://www.lib.berkeley.edu/TeachingLib/Guides/Internet/FindInfo.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3"/>
              </a:rPr>
              <a:t>http://www.sc.edu/beaufort/library/pages/bones/bones.s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Metasearch_engi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6:18:48Z</dcterms:created>
  <dc:creator>Armour User</dc:creator>
  <dc:description/>
  <dc:language>en-US</dc:language>
  <cp:lastModifiedBy>Armour User</cp:lastModifiedBy>
  <dcterms:modified xsi:type="dcterms:W3CDTF">2007-10-10T15:58:59Z</dcterms:modified>
  <cp:revision>5</cp:revision>
  <dc:subject/>
  <dc:title>Internet Tutorial </dc:title>
</cp:coreProperties>
</file>